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19.jpeg" ContentType="image/jpeg"/>
  <Override PartName="/ppt/media/image37.jpeg" ContentType="image/jpeg"/>
  <Override PartName="/ppt/media/image36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E141-4A41-4188-83F0-2968FFF006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8824-A43E-4E69-9D11-02FC9AEB9C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89F-B875-4AB6-8BCA-B39B1904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167F-32AD-4E75-A482-E7787602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9F7A-C10B-4413-8C12-B0C577DA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DFB-C2D3-4BD1-A93C-F4A5E137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97B-CA79-42EC-B887-F97FB00B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75E-693C-4C2C-84C1-5EDB03AD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4153-5B3B-4A69-B342-08AE0247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E76-1C0E-48ED-80A7-5D603293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4C0A-60AB-4E75-B29D-D51154FF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E85-CD4E-483A-82A4-926E3E45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9A0-A6C4-4629-ADBF-3507B790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EDC4-7C49-41EE-8C09-FE445530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634E-AC77-4E40-AABA-D4E4B54C2B7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hyperlink" Target="http://ru.wikipedia.org/wiki/1692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4680" y="17640"/>
            <a:ext cx="9148680" cy="6860880"/>
          </a:xfrm>
          <a:prstGeom prst="rect">
            <a:avLst/>
          </a:prstGeom>
          <a:ln w="0">
            <a:noFill/>
          </a:ln>
        </p:spPr>
      </p:pic>
      <p:pic>
        <p:nvPicPr>
          <p:cNvPr id="50" name="Овал 4" descr=""/>
          <p:cNvPicPr/>
          <p:nvPr/>
        </p:nvPicPr>
        <p:blipFill>
          <a:blip r:embed="rId2"/>
          <a:stretch/>
        </p:blipFill>
        <p:spPr>
          <a:xfrm>
            <a:off x="847800" y="444600"/>
            <a:ext cx="787536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428840" y="642960"/>
            <a:ext cx="6422760" cy="565452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2221560" y="400068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ергиев По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2000160" y="271476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реславль - Зале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3071880" y="228600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12"/>
          <p:cNvSpPr/>
          <p:nvPr/>
        </p:nvSpPr>
        <p:spPr>
          <a:xfrm>
            <a:off x="3786120" y="3000240"/>
            <a:ext cx="142920" cy="142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3"/>
          <p:cNvSpPr/>
          <p:nvPr/>
        </p:nvSpPr>
        <p:spPr>
          <a:xfrm>
            <a:off x="1214280" y="21420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тем наш путь  лежит в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о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Большая звонница Успенского собора - Водосвятный звон (Ростов Великий) (www.hotplayer.ru).mp3" descr=""/>
          <p:cNvPicPr/>
          <p:nvPr/>
        </p:nvPicPr>
        <p:blipFill>
          <a:blip r:embed="rId2"/>
          <a:stretch/>
        </p:blipFill>
        <p:spPr>
          <a:xfrm>
            <a:off x="644400" y="6429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879 C 0.00053 -0.01411 0.00209 -0.01481 0.00608 -0.01643 C 0.0099 -0.02198 0.01372 -0.02799 0.01771 -0.03331 C 0.01945 -0.04095 0.02414 -0.0428 0.02935 -0.04488 C 0.0323 -0.04766 0.03369 -0.05066 0.03612 -0.05413 C 0.03889 -0.06732 0.03889 -0.08189 0.04688 -0.09161 C 0.04792 -0.09646 0.05001 -0.10017 0.05174 -0.10456 C 0.05261 -0.11636 0.054 -0.1226 0.06146 -0.12908 C 0.06198 -0.13186 0.06251 -0.13671 0.06528 -0.13671 E">
                                      <p:cBhvr>
                                        <p:cTn id="82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606665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2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2"/>
          <p:cNvSpPr/>
          <p:nvPr/>
        </p:nvSpPr>
        <p:spPr>
          <a:xfrm>
            <a:off x="71280" y="428760"/>
            <a:ext cx="2786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ос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т город — один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ых древних в Золотом кольце, и уже в давние времена его с уважением называли Великим. Самая замечательная часть города — Ростовский крем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" descr="http://www.zolotoe-koltso.ru/goroda_new/rostov/pics_rostov/rostov_kremlin.jpg"/>
          <p:cNvPicPr/>
          <p:nvPr/>
        </p:nvPicPr>
        <p:blipFill>
          <a:blip r:embed="rId1"/>
          <a:stretch/>
        </p:blipFill>
        <p:spPr>
          <a:xfrm>
            <a:off x="2857680" y="4071960"/>
            <a:ext cx="307152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Ростовский кремль"/>
          <p:cNvPicPr/>
          <p:nvPr/>
        </p:nvPicPr>
        <p:blipFill>
          <a:blip r:embed="rId2"/>
          <a:stretch/>
        </p:blipFill>
        <p:spPr>
          <a:xfrm>
            <a:off x="6000840" y="4143240"/>
            <a:ext cx="2786040" cy="21434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Звонница Ростовского Кремля"/>
          <p:cNvPicPr/>
          <p:nvPr/>
        </p:nvPicPr>
        <p:blipFill>
          <a:blip r:embed="rId3"/>
          <a:stretch/>
        </p:blipFill>
        <p:spPr>
          <a:xfrm>
            <a:off x="2928960" y="428760"/>
            <a:ext cx="4786200" cy="3571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Ростовская финифть"/>
          <p:cNvPicPr/>
          <p:nvPr/>
        </p:nvPicPr>
        <p:blipFill>
          <a:blip r:embed="rId4"/>
          <a:stretch/>
        </p:blipFill>
        <p:spPr>
          <a:xfrm>
            <a:off x="7858080" y="1071720"/>
            <a:ext cx="100656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videoplayback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Физминутка _Гимнастика для глаз_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428840" y="642960"/>
            <a:ext cx="6422760" cy="5654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2221560" y="400068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ергиев По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000160" y="271476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реславль - Зале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3071880" y="228600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2000160" y="9288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Угл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2"/>
          <p:cNvSpPr/>
          <p:nvPr/>
        </p:nvSpPr>
        <p:spPr>
          <a:xfrm>
            <a:off x="4429080" y="2071800"/>
            <a:ext cx="142920" cy="142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3"/>
          <p:cNvSpPr/>
          <p:nvPr/>
        </p:nvSpPr>
        <p:spPr>
          <a:xfrm>
            <a:off x="928800" y="2142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дующая остановка на нашем маршруте — город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Углич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25 -0.00833 -0.01163 -0.01388 -0.02049 -0.01573 C -0.03281 -0.02776 -0.02118 -0.02198 -0.05052 -0.02337 C -0.06198 -0.02869 -0.04566 -0.02152 -0.07778 -0.02591 C -0.08212 -0.02661 -0.08958 -0.03655 -0.09514 -0.03887 C -0.09861 -0.04303 -0.10243 -0.04465 -0.1059 -0.04928 C -0.10695 -0.0539 -0.10886 -0.05575 -0.11077 -0.05968 C -0.11181 -0.06408 -0.11372 -0.06616 -0.11563 -0.06986 C -0.11667 -0.07426 -0.1184 -0.07588 -0.11945 -0.08027 C -0.11858 -0.09762 -0.11441 -0.09716 -0.11945 -0.09716 E">
                                      <p:cBhvr>
                                        <p:cTn id="124" dur="5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4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2"/>
          <p:cNvSpPr/>
          <p:nvPr/>
        </p:nvSpPr>
        <p:spPr>
          <a:xfrm>
            <a:off x="214200" y="1330200"/>
            <a:ext cx="2500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глич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стоит на реке Волге. Название города, возможно, произошло от слова «угол». Река в этом  месте  изгибается,  течёт «угло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048360" y="357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071880" y="357120"/>
            <a:ext cx="2786040" cy="1855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3286080" y="4500720"/>
            <a:ext cx="2357640" cy="176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6215040" y="278604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5"/>
          <a:stretch/>
        </p:blipFill>
        <p:spPr>
          <a:xfrm>
            <a:off x="3214800" y="242892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8"/>
          <p:cNvSpPr/>
          <p:nvPr/>
        </p:nvSpPr>
        <p:spPr>
          <a:xfrm>
            <a:off x="6215040" y="2357280"/>
            <a:ext cx="242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гличский кремль, церковь царевича Димитрия на Крови (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1692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3442680" y="2143080"/>
            <a:ext cx="22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анорама Угличского кремля с Волг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0"/>
          <p:cNvSpPr/>
          <p:nvPr/>
        </p:nvSpPr>
        <p:spPr>
          <a:xfrm>
            <a:off x="3513240" y="6215040"/>
            <a:ext cx="197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ид Угличской ГЭС с ул. Спасс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1"/>
          <p:cNvSpPr/>
          <p:nvPr/>
        </p:nvSpPr>
        <p:spPr>
          <a:xfrm>
            <a:off x="6724440" y="6215040"/>
            <a:ext cx="162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алаты царевича Дмитр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2"/>
          <p:cNvSpPr/>
          <p:nvPr/>
        </p:nvSpPr>
        <p:spPr>
          <a:xfrm>
            <a:off x="3445560" y="4143240"/>
            <a:ext cx="214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ид на Успенскую площадь в Углич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500120" y="706320"/>
            <a:ext cx="6351480" cy="55911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2221560" y="414324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ергиев По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2000160" y="278604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реславль - Зале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071880" y="228600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000160" y="1000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Угл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3643200" y="14288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Яросл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2"/>
          <p:cNvSpPr/>
          <p:nvPr/>
        </p:nvSpPr>
        <p:spPr>
          <a:xfrm>
            <a:off x="1857240" y="285840"/>
            <a:ext cx="58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Углича мы отправимся в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Ярослав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4"/>
          <p:cNvSpPr/>
          <p:nvPr/>
        </p:nvSpPr>
        <p:spPr>
          <a:xfrm>
            <a:off x="3357720" y="1500120"/>
            <a:ext cx="142560" cy="142920"/>
          </a:xfrm>
          <a:custGeom>
            <a:avLst/>
            <a:gdLst>
              <a:gd name="textAreaLeft" fmla="*/ 6840 w 142560"/>
              <a:gd name="textAreaRight" fmla="*/ 135720 w 142560"/>
              <a:gd name="textAreaTop" fmla="*/ 6840 h 142920"/>
              <a:gd name="textAreaBottom" fmla="*/ 136080 h 142920"/>
            </a:gdLst>
            <a:ahLst/>
            <a:rect l="textAreaLeft" t="textAreaTop" r="textAreaRight" b="textAreaBottom"/>
            <a:pathLst>
              <a:path w="21600" h="21654">
                <a:moveTo>
                  <a:pt x="3600" y="0"/>
                </a:moveTo>
                <a:arcTo wR="3600" hR="3600" stAng="16200000" swAng="-5400000"/>
                <a:lnTo>
                  <a:pt x="0" y="18054"/>
                </a:lnTo>
                <a:arcTo wR="3600" hR="3600" stAng="10800000" swAng="-5400000"/>
                <a:lnTo>
                  <a:pt x="18000" y="21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43 -0.00301 0.00591 -0.01018 0.00591 -0.01018 C 0.00625 -0.01319 0.00591 -0.01643 0.00695 -0.0192 C 0.00747 -0.02036 0.00886 -0.0199 0.00973 -0.02059 C 0.01216 -0.02244 0.01459 -0.02568 0.0165 -0.02846 C 0.01736 -0.03539 0.01702 -0.0391 0.02049 -0.04395 C 0.0217 -0.06593 0.01962 -0.05783 0.0283 -0.06847 C 0.02917 -0.07287 0.02986 -0.07564 0.03212 -0.07888 C 0.03438 -0.08698 0.03143 -0.07888 0.03594 -0.08397 C 0.03681 -0.0849 0.03716 -0.08675 0.03802 -0.0879 C 0.04011 -0.09045 0.04479 -0.09438 0.04479 -0.09438 C 0.05104 -0.10734 0.06407 -0.11289 0.07483 -0.11497 C 0.07969 -0.11728 0.08438 -0.11913 0.08941 -0.12029 C 0.12032 -0.11867 0.11164 -0.12677 0.1224 -0.11104 C 0.12379 -0.10595 0.12535 -0.10618 0.12917 -0.10479 C 0.13212 -0.10063 0.13455 -0.096 0.13802 -0.09299 C 0.14098 -0.08675 0.14184 -0.0812 0.14757 -0.07888 C 0.15035 -0.07518 0.15261 -0.07495 0.15643 -0.07356 C 0.15816 -0.06015 0.15521 -0.07125 0.16025 -0.06593 C 0.16181 -0.06431 0.16268 -0.0613 0.16424 -0.05945 C 0.16598 -0.05182 0.16493 -0.04835 0.17101 -0.0465 C 0.17223 -0.04095 0.17396 -0.04164 0.17778 -0.04002 C 0.17813 -0.03863 0.17778 -0.03701 0.17865 -0.03609 C 0.17969 -0.03493 0.18264 -0.03493 0.18264 -0.03493 E">
                                      <p:cBhvr>
                                        <p:cTn id="140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4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2"/>
          <p:cNvSpPr/>
          <p:nvPr/>
        </p:nvSpPr>
        <p:spPr>
          <a:xfrm>
            <a:off x="357120" y="303120"/>
            <a:ext cx="2500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Ярославль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самый крупный город Золотого кольца. Он был основан князем Ярославом Мудрым, имя которого и носит. Город тоже стоит на Волге. Вдоль реки можно прогуляться по очень красивой набереж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4643280" y="428760"/>
            <a:ext cx="4000680" cy="1977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5143680" y="2500200"/>
            <a:ext cx="3214440" cy="2146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4000680" y="4714920"/>
            <a:ext cx="2666880" cy="1797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4"/>
          <a:stretch/>
        </p:blipFill>
        <p:spPr>
          <a:xfrm>
            <a:off x="2928960" y="1428840"/>
            <a:ext cx="1571760" cy="28573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9"/>
          <p:cNvSpPr/>
          <p:nvPr/>
        </p:nvSpPr>
        <p:spPr>
          <a:xfrm>
            <a:off x="2857680" y="4286160"/>
            <a:ext cx="164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Ярославу Мудр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6786720" y="571500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имени Ф. Волко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амятник Ф. Волко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428840" y="825480"/>
            <a:ext cx="6215040" cy="5472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2078640" y="414324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ергиев По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785960" y="285768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реславль - Зале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3000240" y="235728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1928880" y="1071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Угл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3571920" y="150012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Яросл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5929200" y="128592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Костр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1000080" y="357120"/>
            <a:ext cx="72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дующий город на Волге, в котором мы  остановимся,   —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стр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7"/>
          <p:cNvSpPr/>
          <p:nvPr/>
        </p:nvSpPr>
        <p:spPr>
          <a:xfrm>
            <a:off x="4857840" y="1357200"/>
            <a:ext cx="142920" cy="142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3.79366E-007 C 0.00383 0.00463 0.00296 0.01758 0.00678 0.01943 C 0.00869 0.02036 0.01077 0.02012 0.01268 0.02059 C 0.01303 0.02267 0.01285 0.02521 0.01372 0.02706 C 0.01372 0.02706 0.02084 0.03215 0.02136 0.03238 C 0.0323 0.03192 0.04341 0.03215 0.05435 0.031 C 0.05591 0.03076 0.06181 0.02313 0.06615 0.02197 C 0.06789 0.01457 0.06962 0.01388 0.07483 0.01157 C 0.07865 0.0037 0.07414 0.01087 0.0816 0.00648 C 0.08247 0.00601 0.08264 0.00439 0.08351 0.0037 C 0.08438 0.00301 0.08542 0.00301 0.08646 0.00254 C 0.08959 -3.79365999999843E-007 0.09271 -0.00162 0.09514 -0.00532 C 0.0981 -0.01596 0.09358 -0.00278 0.09914 -0.01041 C 0.104 -0.01712 0.09532 -0.01249 0.10296 -0.0155 C 0.10469 -0.01712 0.10764 -0.01966 0.10886 -0.02198 C 0.10938 -0.02313 0.10921 -0.02475 0.10973 -0.02591 C 0.11025 -0.0273 0.11094 -0.02868 0.11164 -0.02984 C 0.11355 -0.03308 0.11685 -0.03401 0.11945 -0.03632 C 0.12014 -0.03771 0.12067 -0.03909 0.12136 -0.04025 C 0.12188 -0.04118 0.12344 -0.0428 0.12344 -0.0428 E">
                                      <p:cBhvr>
                                        <p:cTn id="151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2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357720" y="928800"/>
            <a:ext cx="5494320" cy="45720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2"/>
          <p:cNvSpPr/>
          <p:nvPr/>
        </p:nvSpPr>
        <p:spPr>
          <a:xfrm>
            <a:off x="357120" y="428760"/>
            <a:ext cx="307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стр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посмотреть на план города, можно заметить, что улицы здесь расположены в виде веера. Есть легенда, которая это объясняет. Когда императрица Екатерина Вторая приказала перестроить город, её спросили, какой она хочет видеть Кострому. В этот момент императрица развернула ве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23760" y="0"/>
            <a:ext cx="9258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492360" y="316692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курсо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rcRect l="25031" t="50030" r="0" b="0"/>
          <a:stretch/>
        </p:blipFill>
        <p:spPr>
          <a:xfrm>
            <a:off x="1979640" y="4292640"/>
            <a:ext cx="65167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928880" y="1214280"/>
            <a:ext cx="5780160" cy="50882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3"/>
          <p:cNvSpPr/>
          <p:nvPr/>
        </p:nvSpPr>
        <p:spPr>
          <a:xfrm>
            <a:off x="2507400" y="42861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ергиев По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2214720" y="3071880"/>
            <a:ext cx="16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реславль - Зале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3286080" y="264312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2357280" y="150012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Угл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3786120" y="178596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Яросл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6072120" y="157176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Костр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5357880" y="2214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лё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2"/>
          <p:cNvSpPr/>
          <p:nvPr/>
        </p:nvSpPr>
        <p:spPr>
          <a:xfrm>
            <a:off x="1785960" y="42876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должая свой путь вдоль великой русской ре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етим  ещё один прекрасный город на Волге —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лёс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14"/>
          <p:cNvSpPr/>
          <p:nvPr/>
        </p:nvSpPr>
        <p:spPr>
          <a:xfrm>
            <a:off x="6143760" y="1428840"/>
            <a:ext cx="142920" cy="142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91 0.00162 -0.004 0.00347 -0.00591 0.00509 C -0.00677 0.00602 -0.00868 0.00764 -0.00868 0.00764 C -0.00903 0.01064 -0.00973 0.01365 -0.00973 0.01666 C -0.00973 0.01805 -0.00851 0.0192 -0.00868 0.02059 C -0.00886 0.02175 -0.01007 0.02221 -0.01077 0.02314 C -0.00452 0.03077 -0.00695 0.05113 -0.00191 0.05945 C 0.00034 0.06315 0.00503 0.06269 0.00781 0.06339 C 0.00816 0.06454 0.00816 0.06593 0.00868 0.06709 C 0.0092 0.06824 0.01024 0.06871 0.01059 0.06986 C 0.01128 0.07194 0.01076 0.07449 0.01163 0.07634 C 0.01198 0.07703 0.01979 0.07865 0.02031 0.07888 C 0.02204 0.08559 0.02569 0.0842 0.03107 0.08536 C 0.03559 0.09438 0.03298 0.09137 0.03784 0.09554 C 0.0427 0.09461 0.046 0.09369 0.05052 0.09184 C 0.05156 0.08698 0.05086 0.08906 0.05243 0.08536 E">
                                      <p:cBhvr>
                                        <p:cTn id="167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4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857680" y="641520"/>
            <a:ext cx="5786280" cy="515448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2"/>
          <p:cNvSpPr/>
          <p:nvPr/>
        </p:nvSpPr>
        <p:spPr>
          <a:xfrm>
            <a:off x="357120" y="285840"/>
            <a:ext cx="2500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лё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ёс — это город художников. Художники приезжали сюда и в прошлом. Особенно любил Плёс русский художник Исаак Ильич Левитан (1860-1900). Сейчас в городе открыт музей И.И.Левит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06200" y="1647720"/>
            <a:ext cx="9042480" cy="508644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1" descr=""/>
          <p:cNvPicPr/>
          <p:nvPr/>
        </p:nvPicPr>
        <p:blipFill>
          <a:blip r:embed="rId2"/>
          <a:stretch/>
        </p:blipFill>
        <p:spPr>
          <a:xfrm>
            <a:off x="2328840" y="212760"/>
            <a:ext cx="39006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7429320" cy="5465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1792800" y="421488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ергиев По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1428840" y="300024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реславль - Зале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2786040" y="250020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1500120" y="12142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Угл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3429000" y="157176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Яросл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6286680" y="13572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Костр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5357880" y="200016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лё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4857840" y="34290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узд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2"/>
          <p:cNvSpPr/>
          <p:nvPr/>
        </p:nvSpPr>
        <p:spPr>
          <a:xfrm>
            <a:off x="1500120" y="50004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Плёса мы отправимся в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узда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13"/>
          <p:cNvSpPr/>
          <p:nvPr/>
        </p:nvSpPr>
        <p:spPr>
          <a:xfrm>
            <a:off x="6786720" y="1857240"/>
            <a:ext cx="142560" cy="142920"/>
          </a:xfrm>
          <a:custGeom>
            <a:avLst/>
            <a:gdLst>
              <a:gd name="textAreaLeft" fmla="*/ 6840 w 142560"/>
              <a:gd name="textAreaRight" fmla="*/ 135720 w 142560"/>
              <a:gd name="textAreaTop" fmla="*/ 6840 h 142920"/>
              <a:gd name="textAreaBottom" fmla="*/ 136080 h 142920"/>
            </a:gdLst>
            <a:ahLst/>
            <a:rect l="textAreaLeft" t="textAreaTop" r="textAreaRight" b="textAreaBottom"/>
            <a:pathLst>
              <a:path w="21600" h="21654">
                <a:moveTo>
                  <a:pt x="3600" y="0"/>
                </a:moveTo>
                <a:arcTo wR="3600" hR="3600" stAng="16200000" swAng="-5400000"/>
                <a:lnTo>
                  <a:pt x="0" y="18054"/>
                </a:lnTo>
                <a:arcTo wR="3600" hR="3600" stAng="10800000" swAng="-5400000"/>
                <a:lnTo>
                  <a:pt x="18000" y="21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99 0.00347 -0.00851 0.0037 -0.01267 0.00648 C -0.01823 0.01018 -0.02309 0.01989 -0.02726 0.02591 C -0.02778 0.02822 -0.03003 0.02984 -0.03021 0.03238 C -0.03108 0.04441 -0.03055 0.05644 -0.03108 0.06847 C -0.03125 0.07148 -0.03125 0.07471 -0.03212 0.07749 C -0.03264 0.07888 -0.0342 0.07911 -0.03507 0.08004 C -0.03767 0.08281 -0.04114 0.08883 -0.04271 0.09299 C -0.04653 0.10294 -0.04826 0.11381 -0.05347 0.12283 C -0.05503 0.12954 -0.05625 0.13694 -0.05052 0.13972 C -0.05087 0.14411 -0.05087 0.14851 -0.05156 0.15267 C -0.0526 0.15868 -0.0566 0.16354 -0.05833 0.16932 C -0.0592 0.17742 -0.0625 0.18621 -0.06892 0.18876 C -0.07118 0.19361 -0.07274 0.19361 -0.07674 0.19523 C -0.07986 0.20171 -0.0816 0.20842 -0.0875 0.21073 C -0.08889 0.21721 -0.09236 0.22022 -0.09705 0.22253 C -0.09913 0.22646 -0.10139 0.22947 -0.10399 0.23271 C -0.1059 0.2415 -0.10312 0.23201 -0.10781 0.23918 C -0.11163 0.2452 -0.11337 0.25214 -0.11649 0.25861 C -0.11858 0.26949 -0.12083 0.28013 -0.12326 0.291 C -0.12361 0.29216 -0.12326 0.28846 -0.12326 0.28707 E">
                                      <p:cBhvr>
                                        <p:cTn id="183" dur="5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4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143080" y="4714920"/>
            <a:ext cx="6564240" cy="1214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2143080" y="2500200"/>
            <a:ext cx="6656400" cy="1785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2214720" y="642960"/>
            <a:ext cx="6451560" cy="150012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4"/>
          <p:cNvSpPr/>
          <p:nvPr/>
        </p:nvSpPr>
        <p:spPr>
          <a:xfrm>
            <a:off x="357120" y="785880"/>
            <a:ext cx="171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уздал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мир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ый город-музей. Зде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3 церкв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 монастырей, 17 часовен. Удивительно чувствуешь себя на улицах Суздаля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будто перенёс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далёкое прошл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4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714760" y="571680"/>
            <a:ext cx="6024600" cy="556236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8"/>
          <p:cNvSpPr/>
          <p:nvPr/>
        </p:nvSpPr>
        <p:spPr>
          <a:xfrm>
            <a:off x="642960" y="1428840"/>
            <a:ext cx="1785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городе есть знаменитый Музей деревянного зодчества, где собраны старинные постройки из дерева  —  церкви,   избы,   мельница 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928800" y="1000080"/>
            <a:ext cx="7500960" cy="52974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"/>
          <p:cNvSpPr/>
          <p:nvPr/>
        </p:nvSpPr>
        <p:spPr>
          <a:xfrm>
            <a:off x="1935720" y="421488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ергиев По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1357200" y="292896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реславль - Зале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2857680" y="250020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1643040" y="12859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Угл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3643200" y="16430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Яросл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6572160" y="1428840"/>
            <a:ext cx="13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Костр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5857920" y="200016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лё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5072040" y="34290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узд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5786280" y="464328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Влади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3"/>
          <p:cNvSpPr/>
          <p:nvPr/>
        </p:nvSpPr>
        <p:spPr>
          <a:xfrm>
            <a:off x="1500120" y="57168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Суздаля  совсем  недалеко  до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ладимир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14"/>
          <p:cNvSpPr/>
          <p:nvPr/>
        </p:nvSpPr>
        <p:spPr>
          <a:xfrm>
            <a:off x="5857920" y="3857760"/>
            <a:ext cx="142920" cy="142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81 0.01527 0.00694 0.04396 -0.00677 0.05043 C -0.00313 0.0509 0.00087 0.04904 0.00399 0.05159 C 0.00538 0.05275 0.00382 0.05622 0.00295 0.05807 C 0.00208 0.05969 -0.00434 0.0613 -0.00573 0.062 C -0.00955 0.06709 -0.01268 0.07056 -0.0165 0.07495 C -0.01997 0.07888 -0.01823 0.08027 -0.02031 0.0775 E">
                                      <p:cBhvr>
                                        <p:cTn id="199" dur="5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4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4"/>
          <p:cNvSpPr/>
          <p:nvPr/>
        </p:nvSpPr>
        <p:spPr>
          <a:xfrm>
            <a:off x="500040" y="428760"/>
            <a:ext cx="2928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ладимир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го основал князь Владимир Мономах (отсюда название города). Красивый город Владимир стоит на высоком берегу реки Клязьмы (это приток реки Ок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3" descr="Золотые ворота"/>
          <p:cNvPicPr/>
          <p:nvPr/>
        </p:nvPicPr>
        <p:blipFill>
          <a:blip r:embed="rId1"/>
          <a:stretch/>
        </p:blipFill>
        <p:spPr>
          <a:xfrm>
            <a:off x="3500280" y="642960"/>
            <a:ext cx="52056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428840" y="642960"/>
            <a:ext cx="6422760" cy="56545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"/>
          <p:cNvSpPr/>
          <p:nvPr/>
        </p:nvSpPr>
        <p:spPr>
          <a:xfrm>
            <a:off x="2221560" y="400068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ергиев По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2000160" y="271476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реславль - Зале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3071880" y="228600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2000160" y="9288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Угл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3643200" y="128592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Яросл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6143760" y="1071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Костр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5643720" y="17146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лё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5072040" y="32148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узд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5643720" y="457200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Влади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5-конечная звезда 12"/>
          <p:cNvSpPr/>
          <p:nvPr/>
        </p:nvSpPr>
        <p:spPr>
          <a:xfrm>
            <a:off x="2214720" y="4786200"/>
            <a:ext cx="357120" cy="357480"/>
          </a:xfrm>
          <a:custGeom>
            <a:avLst/>
            <a:gdLst/>
            <a:ahLst/>
            <a:rect l="l" t="t" r="r" b="b"/>
            <a:pathLst>
              <a:path w="357187" h="357187">
                <a:moveTo>
                  <a:pt x="0" y="136433"/>
                </a:moveTo>
                <a:lnTo>
                  <a:pt x="136434" y="136434"/>
                </a:lnTo>
                <a:lnTo>
                  <a:pt x="178594" y="0"/>
                </a:lnTo>
                <a:lnTo>
                  <a:pt x="220753" y="136434"/>
                </a:lnTo>
                <a:lnTo>
                  <a:pt x="357187" y="136433"/>
                </a:lnTo>
                <a:lnTo>
                  <a:pt x="246809" y="220753"/>
                </a:lnTo>
                <a:lnTo>
                  <a:pt x="288970" y="357186"/>
                </a:lnTo>
                <a:lnTo>
                  <a:pt x="178594" y="272865"/>
                </a:lnTo>
                <a:lnTo>
                  <a:pt x="68217" y="357186"/>
                </a:lnTo>
                <a:lnTo>
                  <a:pt x="110378" y="220753"/>
                </a:lnTo>
                <a:lnTo>
                  <a:pt x="0" y="13643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13"/>
          <p:cNvSpPr/>
          <p:nvPr/>
        </p:nvSpPr>
        <p:spPr>
          <a:xfrm>
            <a:off x="5429160" y="4357800"/>
            <a:ext cx="142920" cy="142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08 0.00116 -0.00972 0.00648 -0.01458 0.00763 C -0.0283 0.01087 -0.04253 0.00995 -0.05625 0.01411 C -0.05816 0.01573 -0.0599 0.01689 -0.06111 0.01943 C -0.0625 0.02267 -0.06146 0.02383 -0.06406 0.02591 C -0.06806 0.02915 -0.07587 0.02915 -0.07951 0.02961 C -0.08993 0.03447 -0.09826 0.03632 -0.10972 0.03747 C -0.12118 0.04742 -0.13316 0.04326 -0.14757 0.04395 C -0.18281 0.04256 -0.17569 0.04233 -0.19705 0.04511 C -0.20365 0.05135 -0.19583 0.04465 -0.20486 0.04904 C -0.20694 0.04997 -0.20851 0.05205 -0.21059 0.05297 C -0.21441 0.05182 -0.21771 0.05066 -0.22135 0.04904 C -0.23993 0.05043 -0.24549 0.05205 -0.26111 0.05806 C -0.26406 0.06223 -0.26892 0.06338 -0.27274 0.06593 C -0.2908 0.07796 -0.31233 0.07819 -0.33194 0.07888 C -0.33524 0.07888 -0.33837 0.07888 -0.34167 0.07888 E">
                                      <p:cBhvr>
                                        <p:cTn id="215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-4680" y="17640"/>
            <a:ext cx="9148680" cy="6860880"/>
          </a:xfrm>
          <a:prstGeom prst="rect">
            <a:avLst/>
          </a:prstGeom>
          <a:ln w="0">
            <a:noFill/>
          </a:ln>
        </p:spPr>
      </p:pic>
      <p:pic>
        <p:nvPicPr>
          <p:cNvPr id="195" name="Овал 4" descr=""/>
          <p:cNvPicPr/>
          <p:nvPr/>
        </p:nvPicPr>
        <p:blipFill>
          <a:blip r:embed="rId2"/>
          <a:stretch/>
        </p:blipFill>
        <p:spPr>
          <a:xfrm>
            <a:off x="847800" y="444600"/>
            <a:ext cx="787536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hum-dorogi-na-trasse-road-noise-on-the-track_gVqa8P1s_GLuJ.mp4" descr=""/>
          <p:cNvPicPr/>
          <p:nvPr/>
        </p:nvPicPr>
        <p:blipFill>
          <a:blip r:embed="rId1"/>
          <a:stretch/>
        </p:blipFill>
        <p:spPr>
          <a:xfrm>
            <a:off x="473040" y="333360"/>
            <a:ext cx="8220240" cy="6164280"/>
          </a:xfrm>
          <a:prstGeom prst="rect">
            <a:avLst/>
          </a:prstGeom>
          <a:ln w="0">
            <a:noFill/>
          </a:ln>
        </p:spPr>
      </p:pic>
      <p:pic>
        <p:nvPicPr>
          <p:cNvPr id="58" name="_storage_free_apihost.ru_voice606f2a04205ad801876335.mp3" descr=""/>
          <p:cNvPicPr/>
          <p:nvPr/>
        </p:nvPicPr>
        <p:blipFill>
          <a:blip r:embed="rId2"/>
          <a:stretch/>
        </p:blipFill>
        <p:spPr>
          <a:xfrm>
            <a:off x="0" y="2984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93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2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071800" y="642960"/>
            <a:ext cx="6422760" cy="5654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2792880" y="40719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ергиев По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12"/>
          <p:cNvSpPr/>
          <p:nvPr/>
        </p:nvSpPr>
        <p:spPr>
          <a:xfrm>
            <a:off x="2928960" y="4929120"/>
            <a:ext cx="46080" cy="71640"/>
          </a:xfrm>
          <a:custGeom>
            <a:avLst/>
            <a:gdLst>
              <a:gd name="textAreaLeft" fmla="*/ 2160 w 46080"/>
              <a:gd name="textAreaRight" fmla="*/ 43920 w 46080"/>
              <a:gd name="textAreaTop" fmla="*/ 2160 h 71640"/>
              <a:gd name="textAreaBottom" fmla="*/ 69480 h 71640"/>
            </a:gdLst>
            <a:ahLst/>
            <a:rect l="textAreaLeft" t="textAreaTop" r="textAreaRight" b="textAreaBottom"/>
            <a:pathLst>
              <a:path w="21600" h="33488">
                <a:moveTo>
                  <a:pt x="3600" y="0"/>
                </a:moveTo>
                <a:arcTo wR="3600" hR="3600" stAng="16200000" swAng="-5400000"/>
                <a:lnTo>
                  <a:pt x="0" y="29888"/>
                </a:lnTo>
                <a:arcTo wR="3600" hR="3600" stAng="10800000" swAng="-5400000"/>
                <a:lnTo>
                  <a:pt x="18000" y="334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425520" y="642960"/>
            <a:ext cx="1571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утешествие по Золотому кольцу мы отправляемся из Москвы. Едем на северо-вост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мы прибываем в город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ергиев Посад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2105 C 0.00834 -0.01943 0.00973 -0.01827 0.01563 -0.02105 C 0.01771 -0.02198 0.01754 -0.02706 0.01858 -0.02891 C 0.02049 -0.03192 0.02466 -0.03285 0.02726 -0.034 C 0.03177 -0.03794 0.03386 -0.04488 0.03907 -0.04696 C 0.0441 -0.05737 0.04184 -0.05135 0.04375 -0.05852 C 0.04445 -0.06107 0.04584 -0.06639 0.04584 -0.06616 C 0.04653 -0.07449 0.04653 -0.0768 0.0507 -0.08189 C 0.05174 -0.08651 0.05295 -0.08906 0.05556 -0.0923 C 0.05712 -0.09901 0.05782 -0.10641 0.06233 -0.11034 C 0.06476 -0.12121 0.06129 -0.10803 0.06528 -0.11682 C 0.06754 -0.12167 0.06702 -0.12376 0.07101 -0.12723 C 0.07518 -0.13555 0.07466 -0.14643 0.07882 -0.15429 C 0.08021 -0.16077 0.08177 -0.16794 0.08664 -0.17118 E">
                                      <p:cBhvr>
                                        <p:cTn id="39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4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2"/>
          <p:cNvSpPr/>
          <p:nvPr/>
        </p:nvSpPr>
        <p:spPr>
          <a:xfrm>
            <a:off x="285840" y="765000"/>
            <a:ext cx="228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род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ергиев Пос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ван в честь святог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ргия Радонежск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который основал здесь большой монасты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т монастырь называется Троице-Сергиева лав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3014640" y="333360"/>
            <a:ext cx="5572080" cy="3408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6227640" y="4002120"/>
            <a:ext cx="2762280" cy="2073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2771640" y="4002120"/>
            <a:ext cx="3229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0" t="18908" r="0" b="0"/>
          <a:stretch/>
        </p:blipFill>
        <p:spPr>
          <a:xfrm>
            <a:off x="0" y="549360"/>
            <a:ext cx="9144000" cy="556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5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143080" y="714240"/>
            <a:ext cx="6423120" cy="5654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864520" y="414324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ергиев По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2500200" y="285768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реславль - Зале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500040" y="1928880"/>
            <a:ext cx="1428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Сергиева Поса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ы едем в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ереславль-Залесск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3"/>
          <p:cNvSpPr/>
          <p:nvPr/>
        </p:nvSpPr>
        <p:spPr>
          <a:xfrm>
            <a:off x="3714840" y="3857760"/>
            <a:ext cx="71280" cy="142920"/>
          </a:xfrm>
          <a:custGeom>
            <a:avLst/>
            <a:gdLst>
              <a:gd name="textAreaLeft" fmla="*/ 3240 w 71280"/>
              <a:gd name="textAreaRight" fmla="*/ 68040 w 71280"/>
              <a:gd name="textAreaTop" fmla="*/ 3240 h 142920"/>
              <a:gd name="textAreaBottom" fmla="*/ 139680 h 14292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-0.00347 C 0.00521 -0.01319 0.01094 -0.01828 0.01788 -0.02151 C 0.01858 -0.0229 0.01927 -0.02406 0.01979 -0.02545 C 0.02031 -0.0266 0.02031 -0.02799 0.02083 -0.02915 C 0.02257 -0.03285 0.02326 -0.03169 0.02569 -0.03447 C 0.03038 -0.04002 0.0316 -0.04372 0.03733 -0.04603 C 0.04115 -0.04927 0.0441 -0.05297 0.04809 -0.05644 C 0.04896 -0.05737 0.05087 -0.05899 0.05087 -0.05876 C 0.05312 -0.06385 0.05746 -0.06639 0.06163 -0.06801 C 0.06476 -0.07055 0.06684 -0.07379 0.06944 -0.07703 C 0.06962 -0.07749 0.07101 -0.08443 0.07135 -0.0849 C 0.07292 -0.08698 0.07552 -0.08767 0.07708 -0.08998 C 0.07934 -0.09322 0.08142 -0.096 0.08385 -0.09901 C 0.08559 -0.10109 0.08715 -0.1034 0.08871 -0.10548 C 0.08941 -0.10641 0.0908 -0.10826 0.0908 -0.10803 C 0.09115 -0.10942 0.09115 -0.1108 0.09167 -0.11196 C 0.09219 -0.11312 0.09358 -0.11474 0.09358 -0.1145 E">
                                      <p:cBhvr>
                                        <p:cTn id="55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2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785880" y="500040"/>
            <a:ext cx="3214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ереславль-Залесск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город,  который, как и Москва, был основан князем Юрием Долгорук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есь сохранились старинные  церкви  и  другие  памятники  архитек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4" descr="http://www.zolotoe-koltso.ru/goroda_new/pereslavl/pics_peresl/pereslavl_goritskiy.jpg"/>
          <p:cNvPicPr/>
          <p:nvPr/>
        </p:nvPicPr>
        <p:blipFill>
          <a:blip r:embed="rId1"/>
          <a:stretch/>
        </p:blipFill>
        <p:spPr>
          <a:xfrm>
            <a:off x="4429080" y="714240"/>
            <a:ext cx="3809880" cy="24004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http://www.zolotoe-koltso.ru/goroda_new/pereslavl/pics_peresl/pereslavl_goritskiy2.jpg"/>
          <p:cNvPicPr/>
          <p:nvPr/>
        </p:nvPicPr>
        <p:blipFill>
          <a:blip r:embed="rId2"/>
          <a:stretch/>
        </p:blipFill>
        <p:spPr>
          <a:xfrm>
            <a:off x="450072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http://www.zolotoe-koltso.ru/goroda_new/pereslavl/pics_peresl/plesheevo.jpg"/>
          <p:cNvPicPr/>
          <p:nvPr/>
        </p:nvPicPr>
        <p:blipFill>
          <a:blip r:embed="rId3"/>
          <a:stretch/>
        </p:blipFill>
        <p:spPr>
          <a:xfrm>
            <a:off x="428760" y="2643120"/>
            <a:ext cx="387504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Весёлая МУЛЬТ-зарядка _ Morning exercises cartoon. Наше_всё!.mp4" descr=""/>
          <p:cNvPicPr/>
          <p:nvPr/>
        </p:nvPicPr>
        <p:blipFill>
          <a:blip r:embed="rId1"/>
          <a:stretch/>
        </p:blipFill>
        <p:spPr>
          <a:xfrm>
            <a:off x="15840" y="189000"/>
            <a:ext cx="9128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6:35:03Z</dcterms:created>
  <dc:creator>Дима</dc:creator>
  <dc:description/>
  <dc:language>en-US</dc:language>
  <cp:lastModifiedBy>Пользователь</cp:lastModifiedBy>
  <dcterms:modified xsi:type="dcterms:W3CDTF">2021-04-12T16:48:05Z</dcterms:modified>
  <cp:revision>88</cp:revision>
  <dc:subject/>
  <dc:title>Слайд 1</dc:title>
</cp:coreProperties>
</file>